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C27F-1656-4214-822C-FF34E031E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B31B-F90C-4CF3-8087-DD91EA492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65D4-FDC1-46CD-93FC-49DA16441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A57E-7CBF-43EA-978C-9B648D825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1C86-E549-475E-99E1-0400F0307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1AE1-201D-45DD-9D56-3EA2435CA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C49B-E112-49D8-B51B-7AAEE3604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5378-90F8-4CBC-A546-0458919A8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D065-2FE9-49BB-9322-5974D444B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0B95-001F-4349-A44D-4E3CD28DE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ECAD-9B25-40AD-92D8-FD0220D4F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F4B4-30DA-45C4-BE03-994C65A1E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F0F-0B7B-4072-884F-098338FCBC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://evernote.com/webclipper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www.evernote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05AB-693B-45D5-9605-030D9B93A6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0" y="1828800"/>
            <a:ext cx="91440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ving Web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A90-ED10-437D-973B-42C7224D80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378240" cy="1866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457200" y="99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just click the Evernote button in my browser toolb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3378240" cy="2121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57200" y="2743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brand new note is created for me with the content that I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0880" y="41911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Web Clipper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vernote.com/webclipper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B70C-6309-4B4A-A6E7-CC5C6B0713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stalling Ever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1" name="Content Placeholder 1" descr=""/>
          <p:cNvPicPr/>
          <p:nvPr/>
        </p:nvPicPr>
        <p:blipFill>
          <a:blip r:embed="rId1"/>
          <a:srcRect l="1165" t="0" r="1165" b="0"/>
          <a:stretch/>
        </p:blipFill>
        <p:spPr>
          <a:xfrm>
            <a:off x="4800600" y="1523880"/>
            <a:ext cx="4175280" cy="266724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577-14B3-4CA1-87CF-0766BCFA8F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281-9CAE-4658-8A96-82738701CF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76320" y="114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download the installation software. Open your favorite web browser and visit the Evernote Web site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vernote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The Web site will automatically detect what type of computer you are using and provide you with the correct download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ing an Accou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2ECE-342C-4D85-89A7-107E021029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378240" cy="2882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3378240" cy="2565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04920" y="838080"/>
            <a:ext cx="47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time you launch the Evernote application, you will be prompted to enter your username and password, or create a new Evernote account. To create a new Evernote account, click "Get a free Evernote account now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3962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ing this link will open a new window where you can input your information and choose a user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first 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B4D7-E96F-469F-AC8F-7E00520736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378240" cy="135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666880" y="2743200"/>
            <a:ext cx="6269040" cy="2870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0492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top of the main Evernote window, you'll see a large button labeled "New No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266688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at button and Evernote will create a brand new note and place the cursor into the body of the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first Not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C80-2616-4E22-81F6-D3DC364A29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3686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419720" y="3368520"/>
            <a:ext cx="4349520" cy="1990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52280" y="1219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give the note any title you like. For this example, a simple 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527720" y="1339920"/>
            <a:ext cx="7617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4527720" y="3487680"/>
            <a:ext cx="7617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4495680" y="4103640"/>
            <a:ext cx="274320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is the best Math Camppp ev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152280" y="34290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click in the main body of the note and start typ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ng an Imag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6D04-A846-46BC-9069-D9B3954079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1841760" cy="1911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609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's say you have an image file on your computer's desktop that you'd like to add to Ever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5181480" y="2514600"/>
            <a:ext cx="3378240" cy="3378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457200" y="2590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main Evernote window, click that "New Note" button again, fill in a title for your first image note, and drag the image directly into the note 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ng an Imag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4BA9-BF9B-48D9-A023-39441E1AAF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6769080" cy="3225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228600" y="914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echnique can be used when saving images from the web. Simply click and drag your image and drop your image into the body of a note. That's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0" t="0" r="8800" b="0"/>
          <a:stretch/>
        </p:blipFill>
        <p:spPr>
          <a:xfrm>
            <a:off x="3603600" y="152280"/>
            <a:ext cx="5537160" cy="4419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yncing your No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5D1C-FFBE-4480-9E6F-1B6DF7BF9B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04920" y="99072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Evernote applications are in regular contact with Evernote on the Web. Whenever a new note is created or edited on any of your Evernote-capable devices, the note is uploaded to the Evernote on the Web where all of your other devices will download it the next time they sy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765760" y="5410080"/>
            <a:ext cx="3378240" cy="838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689440" y="4191120"/>
            <a:ext cx="34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manually sync any time by clicking the "Sync"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ving Web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234-BCBF-416F-92EA-DF095601FE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304920" y="10666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 content from the web to your Evernote account is quick and easy with the Evernote Web Clipper. It works a little differently depending on the browser you're using, but it's as easy as highlighting part of the web page you're viewing and clicking a button in your browser's toolbar or, if you use Internet Explorer, right-cli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378240" cy="294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6-19T17:52:46Z</dcterms:modified>
  <cp:revision>16</cp:revision>
  <dc:subject/>
  <dc:title>&lt;Title&gt;</dc:title>
</cp:coreProperties>
</file>